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E5D96-FFA9-42F4-8EE1-6B6B936C45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DC88F-6D25-4738-BEA9-31BB3361E85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9F246-81A0-4A9C-ACAB-B2F9B0970E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83508-8229-4D3C-8667-2F87CDFC2B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CCF7D-0A53-4D0B-9BB4-9A506900914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45F05-C11E-4423-BD66-43D689DDF1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2FE79-4D94-43F0-A9C2-1BA8F8CC54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E3313-BF1F-423B-B380-A614542C46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F685B-8930-411A-84B1-DB26992F8A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31E27-A7A6-41A7-980C-24D600CCAAC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AFF77-E7A3-48BF-B887-B3B5D370ACE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F2912-6E0C-40A6-9F64-AC8ED119AD6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0A6222-0BAA-4BCF-86AC-561ED92C60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52DA0-EF3D-484E-A1D8-0EEF50A1F6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3F656-271D-4E2E-B12B-DE7559930E0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CEB6C-4963-46B7-A19B-4FE4C17BCA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2F9389-1013-4050-A7FE-D10CA0E1AF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C7317-09A2-46C5-9574-2ED85B6955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68F689-0073-4E54-9288-A9551C4E77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70991F-DB95-465B-B99D-EC9B8E6A0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DFC89-F1E5-4683-990F-88627708D2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56C878-E141-4A47-9817-F713DC564A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16B34-66E2-4063-B2D8-FEBF778507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BB6C80-831E-4D45-B77F-1409F9EE0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9A6AD7-E661-4BF0-B996-B760E1FE1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DD4F8-9187-47A7-9EE3-CA7560FDC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0F0C4-8F4E-4E25-BBFA-660C09306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23860F-ADA0-4DBD-B71B-96AD0343B2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621CB-DABA-46CA-9D3E-C00ECF9F94CD}"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pseau.org/"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2" descr=""/>
          <p:cNvPicPr/>
          <p:nvPr/>
        </p:nvPicPr>
        <p:blipFill>
          <a:blip r:embed="rId1"/>
          <a:srcRect l="14476" t="0" r="10361" b="0"/>
          <a:stretch/>
        </p:blipFill>
        <p:spPr>
          <a:xfrm>
            <a:off x="0" y="368280"/>
            <a:ext cx="1600200" cy="6019920"/>
          </a:xfrm>
          <a:prstGeom prst="rect">
            <a:avLst/>
          </a:prstGeom>
          <a:ln w="0">
            <a:noFill/>
          </a:ln>
        </p:spPr>
      </p:pic>
      <p:sp>
        <p:nvSpPr>
          <p:cNvPr id="49" name="Text Box 3"/>
          <p:cNvSpPr/>
          <p:nvPr/>
        </p:nvSpPr>
        <p:spPr>
          <a:xfrm>
            <a:off x="4876920" y="5334120"/>
            <a:ext cx="2935080" cy="862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ea typeface="Times New Roman"/>
              </a:rPr>
              <a:t>Pierre-Marie Grondin</a:t>
            </a:r>
            <a:endParaRPr b="0" lang="en-US" sz="2000" spc="-1" strike="noStrike">
              <a:solidFill>
                <a:srgbClr val="000000"/>
              </a:solidFill>
              <a:latin typeface="Arial"/>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 name="Text Box 4"/>
          <p:cNvSpPr/>
          <p:nvPr/>
        </p:nvSpPr>
        <p:spPr>
          <a:xfrm>
            <a:off x="2050920" y="981000"/>
            <a:ext cx="684216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333399"/>
                </a:solidFill>
                <a:latin typeface="Arial"/>
              </a:rPr>
              <a:t>L’eau au Maroc et en France des similitudes et des différences</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333399"/>
                </a:solidFill>
                <a:latin typeface="Arial"/>
              </a:rPr>
              <a:t>La coopération, une démarche volontaire et solidaire</a:t>
            </a:r>
            <a:endParaRPr b="0" lang="en-US" sz="3600" spc="-1" strike="noStrike">
              <a:solidFill>
                <a:srgbClr val="000000"/>
              </a:solidFill>
              <a:latin typeface="Arial"/>
            </a:endParaRPr>
          </a:p>
        </p:txBody>
      </p:sp>
      <p:pic>
        <p:nvPicPr>
          <p:cNvPr id="51" name="Picture 5" descr=""/>
          <p:cNvPicPr/>
          <p:nvPr/>
        </p:nvPicPr>
        <p:blipFill>
          <a:blip r:embed="rId2"/>
          <a:stretch/>
        </p:blipFill>
        <p:spPr>
          <a:xfrm>
            <a:off x="7924680" y="5105520"/>
            <a:ext cx="1219320" cy="1218960"/>
          </a:xfrm>
          <a:prstGeom prst="rect">
            <a:avLst/>
          </a:prstGeom>
          <a:ln w="0">
            <a:noFill/>
          </a:ln>
        </p:spPr>
      </p:pic>
      <p:sp>
        <p:nvSpPr>
          <p:cNvPr id="52" name="Text Box 6"/>
          <p:cNvSpPr/>
          <p:nvPr/>
        </p:nvSpPr>
        <p:spPr>
          <a:xfrm>
            <a:off x="1835280" y="4221000"/>
            <a:ext cx="662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gadir 18 décembre 20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Arial"/>
              </a:rPr>
              <a:t>La coopération décentralisée française en Méditerranée</a:t>
            </a:r>
            <a:endParaRPr b="0" lang="en-US" sz="32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a coopération décentralisée française en Méditerranée sur le thème de l’eau et l’assainissement n’est pas la thématique la plus largement répandue. Les actions les plus nombreuses tournent autour des activités culturelles, du développement et de l’aménagement urbain, des actions social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a coopération décentralisée dans le domaine de l’eau est surtout développé au niveau du Maghreb et plus particulièrement au Maroc.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Arial"/>
              </a:rPr>
              <a:t>Des communes</a:t>
            </a:r>
            <a:endParaRPr b="0" lang="en-US" sz="32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mmune d’Aix-en-Provence et Commune d’Oujda</a:t>
            </a:r>
            <a:r>
              <a:rPr b="1" lang="fr-FR"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c2a2a"/>
                </a:solidFill>
                <a:latin typeface="Arial"/>
              </a:rPr>
              <a:t>entre la Régie Autonome Intercommunale de Distribution d’Eau et d’Electricité d’Oujda (RADEEO) créée en 1978 et la Direction de l’Eau et de l’Assainissement (DEA) de la ville d’Aix en Provence</a:t>
            </a:r>
            <a:endParaRPr b="0" lang="en-US" sz="16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c2a2a"/>
                </a:solidFill>
                <a:latin typeface="Arial"/>
              </a:rPr>
              <a:t>Commune de Maxeville et Commune d’Imouzzer du Kandar</a:t>
            </a:r>
            <a:r>
              <a:rPr b="1" lang="fr-FR" sz="1800" spc="-1" strike="noStrike">
                <a:solidFill>
                  <a:srgbClr val="2c2a2a"/>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c2a2a"/>
                </a:solidFill>
                <a:latin typeface="Arial"/>
              </a:rPr>
              <a:t>1995, Ville de Maxéville, N.A.N.C.I.E, (Centre International de l’Eau), l’O. N. E. P. (Office National de l’Eau Potable du Royaume du, Maroc) et la Ville d’Imouzzer du Kandar pour l’approvisionnement en eau potable</a:t>
            </a:r>
            <a:r>
              <a:rPr b="0" lang="fr-FR" sz="1800" spc="-1" strike="noStrike">
                <a:solidFill>
                  <a:srgbClr val="2c2a2a"/>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mmune de Belfort et Commune de Mohammedi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rticipation au projet de gestion intégrée de la zone humide de Mohammedia</a:t>
            </a:r>
            <a:endParaRPr b="0" lang="en-US" sz="16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mmune de La Rochelle et Commune d’Essaouira</a:t>
            </a:r>
            <a:r>
              <a:rPr b="1" lang="fr-FR"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Étude sur l’assainissement de la ville d’Essaouir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c2a2a"/>
                </a:solidFill>
                <a:latin typeface="Arial"/>
              </a:rPr>
              <a:t>Ville de Tours en Hydraulique villageoise, Ville de Marseille avec Casablanc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Arial"/>
              </a:rPr>
              <a:t>Des régions et de communautés urbaines</a:t>
            </a:r>
            <a:endParaRPr b="0" lang="en-US" sz="3200" spc="-1" strike="noStrike">
              <a:solidFill>
                <a:srgbClr val="000000"/>
              </a:solidFill>
              <a:latin typeface="Arial"/>
            </a:endParaRPr>
          </a:p>
        </p:txBody>
      </p:sp>
      <p:sp>
        <p:nvSpPr>
          <p:cNvPr id="75" name="PlaceHolder 2"/>
          <p:cNvSpPr>
            <a:spLocks noGrp="1"/>
          </p:cNvSpPr>
          <p:nvPr>
            <p:ph/>
          </p:nvPr>
        </p:nvSpPr>
        <p:spPr>
          <a:xfrm>
            <a:off x="457200" y="1599840"/>
            <a:ext cx="8229600" cy="3700440"/>
          </a:xfrm>
          <a:prstGeom prst="rect">
            <a:avLst/>
          </a:prstGeom>
          <a:noFill/>
          <a:ln w="0">
            <a:noFill/>
          </a:ln>
        </p:spPr>
        <p:txBody>
          <a:bodyPr anchor="t">
            <a:normAutofit fontScale="93000"/>
          </a:bodyPr>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c2a2a"/>
                </a:solidFill>
                <a:latin typeface="Arial"/>
              </a:rPr>
              <a:t>Région Lorraine et Région Fès-Boulmane </a:t>
            </a: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c2a2a"/>
                </a:solidFill>
                <a:latin typeface="Arial"/>
              </a:rPr>
              <a:t>Assainissement liquide/solide, approvisionnement en eau potable (partenaire ONEP, NANCIE). </a:t>
            </a: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c2a2a"/>
                </a:solidFill>
                <a:latin typeface="Arial"/>
              </a:rPr>
              <a:t>Région Centre avec Meknès (Tafilalet)</a:t>
            </a: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c2a2a"/>
                </a:solidFill>
                <a:latin typeface="Arial"/>
              </a:rPr>
              <a:t>Les grands axes d’une éventuelle coopération parmi lesquels : « L’intensification des échanges humain, culturel et économique, le développement durable, la gestion de la ressource en eau et le développement de l’agriculture raisonnée, la formation professionnelle, la lutte contre la pauvreté...» </a:t>
            </a: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égion Aquitaine et Région Souss-Massa-Draa</a:t>
            </a: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Trois axes : La politique de l’eau Assistance pour l’élaboration d’une stratégie de communication, sensibilisation et éducation sur la gestion de l’eau et conception des outils de communication </a:t>
            </a: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c2a2a"/>
                </a:solidFill>
                <a:latin typeface="Arial"/>
              </a:rPr>
              <a:t>Communauté Urbaine de Lyon et Communauté Urbaine d’Agadir</a:t>
            </a:r>
            <a:r>
              <a:rPr b="0" lang="fr-FR" sz="1600" spc="-1" strike="noStrike">
                <a:solidFill>
                  <a:srgbClr val="2c2a2a"/>
                </a:solidFill>
                <a:latin typeface="Arial"/>
              </a:rPr>
              <a:t> </a:t>
            </a: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c2a2a"/>
                </a:solidFill>
                <a:latin typeface="Arial"/>
              </a:rPr>
              <a:t>Assainissement liquide/solide (formation de techniciens, assistance technique dans la gestion des effets solides, coopération recherche...)</a:t>
            </a: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c2a2a"/>
                </a:solidFill>
                <a:latin typeface="Arial"/>
              </a:rPr>
              <a:t>Le Grand Lyon est également engagé dans un accord de coopération triangulaire entre sa direction de l’eau, la direction de l’eau à Beyrouth et l’ONEP au Maroc : la collaboration porte sur des systèmes d’analyse (implication de l’association CORAIL)</a:t>
            </a:r>
            <a:endParaRPr b="0" lang="en-US" sz="1600" spc="-1" strike="noStrike">
              <a:solidFill>
                <a:srgbClr val="000000"/>
              </a:solidFill>
              <a:latin typeface="Arial"/>
            </a:endParaRPr>
          </a:p>
          <a:p>
            <a:pPr marL="3189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24000" y="333000"/>
            <a:ext cx="88200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Arial"/>
              </a:rPr>
              <a:t>Des départements et des syndicats</a:t>
            </a:r>
            <a:endParaRPr b="0" lang="en-US" sz="3200" spc="-1" strike="noStrike">
              <a:solidFill>
                <a:srgbClr val="000000"/>
              </a:solidFill>
              <a:latin typeface="Arial"/>
            </a:endParaRPr>
          </a:p>
        </p:txBody>
      </p:sp>
      <p:sp>
        <p:nvSpPr>
          <p:cNvPr id="77" name="PlaceHolder 2"/>
          <p:cNvSpPr>
            <a:spLocks noGrp="1"/>
          </p:cNvSpPr>
          <p:nvPr>
            <p:ph/>
          </p:nvPr>
        </p:nvSpPr>
        <p:spPr>
          <a:xfrm>
            <a:off x="179280" y="1341360"/>
            <a:ext cx="8964720" cy="49672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nseil Général de Vendée et Communauté Urbaine de Raba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Formation de techniciens supérieurs dans le domaine de l’assainissement solide et liquide à l’Institut Agronomique et Vétérinaire Hassan II.</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nseil Général de l’Hérault et Conseil Régional Souss Massa Draa</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ppui à la mise en œuvre d’une politique régionale de développement durable : Amélioration de la gestion raisonnée de l’eau pour parvenir à un équilibre de la ressource et de la consommation en eau en 2015.</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nseil général de la Seine-Saint-Denis avec la Municipalité de Figuig</a:t>
            </a:r>
            <a:r>
              <a:rPr b="0" lang="fr-FR" sz="1600" spc="-1" strike="noStrike">
                <a:solidFill>
                  <a:srgbClr val="000000"/>
                </a:solidFill>
                <a:latin typeface="Arial"/>
              </a:rPr>
              <a: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c2a2a"/>
                </a:solidFill>
                <a:latin typeface="Arial"/>
              </a:rPr>
              <a:t>depuis juin 2000,présence importante en Seine-Saint-Denis d’une communauté originaire de Figuig</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yndicat intercommunal de Beaumont Ceyrat St Genes Chapanelle avec Tadnast, </a:t>
            </a:r>
            <a:r>
              <a:rPr b="0" lang="fr-FR" sz="1600" spc="-1" strike="noStrike">
                <a:solidFill>
                  <a:srgbClr val="000000"/>
                </a:solidFill>
                <a:latin typeface="Arial"/>
              </a:rPr>
              <a:t>Adduction d’eau potabl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Syndicat Sydom du Jura, Lons le Saunier et Communautés Urbaines de Kenitra et Tanger (associe également Antalya en Turquie et Lisbonne au Portugal)</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Ecocycle, coopération sur la récupération et le recyclage des déchets (liquide et solide) transfert de savoir- faire et d’expériences.</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Arial"/>
              </a:rPr>
              <a:t>D’autres initiatives notamment les Agences de l’eau</a:t>
            </a:r>
            <a:endParaRPr b="0" lang="en-US" sz="3200" spc="-1" strike="noStrike">
              <a:solidFill>
                <a:srgbClr val="000000"/>
              </a:solidFill>
              <a:latin typeface="Arial"/>
            </a:endParaRPr>
          </a:p>
        </p:txBody>
      </p:sp>
      <p:sp>
        <p:nvSpPr>
          <p:cNvPr id="79" name="PlaceHolder 2"/>
          <p:cNvSpPr>
            <a:spLocks noGrp="1"/>
          </p:cNvSpPr>
          <p:nvPr>
            <p:ph/>
          </p:nvPr>
        </p:nvSpPr>
        <p:spPr>
          <a:xfrm>
            <a:off x="250560" y="1773000"/>
            <a:ext cx="8569080" cy="381636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nseil Régional Nord Pas de Calais et la Région de Doukkala Abd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Pas d’action sur l’eau pour le moment mais cité dans le protocole d’accord de 200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nseil Général de l’Isère et le Conseil régional de Tadla-Azil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Appui aux femmes pour l’accès aux ressources et engagement sur la petite hydrauliqu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Ville de Strasbourg et ville de Fès</a:t>
            </a:r>
            <a:r>
              <a:rPr b="0" lang="fr-FR" sz="1600" spc="-1" strike="noStrike">
                <a:solidFill>
                  <a:srgbClr val="000000"/>
                </a:solidFill>
                <a:latin typeface="Arial"/>
              </a:rPr>
              <a:t>, Depuis 2004, un nouveau volet assainissemen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e Syndicat des eaux d’Île de France</a:t>
            </a:r>
            <a:r>
              <a:rPr b="0" lang="fr-FR" sz="1600" spc="-1" strike="noStrike">
                <a:solidFill>
                  <a:srgbClr val="000000"/>
                </a:solidFill>
                <a:latin typeface="Arial"/>
              </a:rPr>
              <a:t> (SEDIF) à Oujda avec Car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Arial"/>
              </a:rPr>
              <a:t>Les Agences de l’eau comme Rhône Méditerranée Corse et Adour Garonne, sont souvent associées aux actions menées par les collectivités de leurs bassin et le deuxième volet de la loi va accroître leur mobilisa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Merci de vous être mobilisés pour cette journée et de votre attentio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Secrétariat du Groupe d’échange CNCD/CN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www.pseau.org</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seau@pseau.or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99"/>
                </a:solidFill>
                <a:latin typeface="Arial"/>
              </a:rPr>
              <a:t>Des similitudes</a:t>
            </a:r>
            <a:endParaRPr b="0" lang="en-US" sz="32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sponsabilité publiqu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3 acteurs clés Décideurs locaux, organismes de bassin, Ét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Ressour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artage de la notion de la gestion par bassi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es outils pour connaître la ressource en eau</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 souci d’améliorer sa qualité</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onscience du danger de l’eau</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Eau potab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ermettre l’accès aux services à tou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es pertes des réseaux qui demeurent important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 manque d’action sur la demand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ssainissem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 manque de prévention et une tendance au curatif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Un équilibre à trouver entre le collectif et le non collectif</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99"/>
                </a:solidFill>
                <a:latin typeface="Arial"/>
              </a:rPr>
              <a:t>Quelques différences</a:t>
            </a:r>
            <a:endParaRPr b="0" lang="en-US" sz="32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Maroc a sa propre législation la France dépend d’un cadre européen plus large que le territoire nation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ne histoire de la gestion locale propre à chaque pay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xposition au stress hydriqu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xposition aux crues et aux aléas climatiques plus importante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Notion du prix du coût du service, du prix de l’eau</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ne urbanisation plus importante et une autre répartition de la population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i les réseaux existent leur accès n’est pas garantie de la même manièr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Intégration du coût de l’assainissement dans le prix de l’eau, principe pollueur payeur</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99"/>
                </a:solidFill>
                <a:latin typeface="Arial"/>
              </a:rPr>
              <a:t>Les collectivités territoriales</a:t>
            </a:r>
            <a:endParaRPr b="0" lang="en-US" sz="3200" spc="-1" strike="noStrike">
              <a:solidFill>
                <a:srgbClr val="000000"/>
              </a:solidFill>
              <a:latin typeface="Arial"/>
            </a:endParaRPr>
          </a:p>
        </p:txBody>
      </p:sp>
      <p:sp>
        <p:nvSpPr>
          <p:cNvPr id="58" name="PlaceHolder 2"/>
          <p:cNvSpPr>
            <a:spLocks noGrp="1"/>
          </p:cNvSpPr>
          <p:nvPr>
            <p:ph/>
          </p:nvPr>
        </p:nvSpPr>
        <p:spPr>
          <a:xfrm>
            <a:off x="304920" y="1371600"/>
            <a:ext cx="8153280" cy="457200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Titre IV "De la coopération décentralisée" de la loi du 6 février 1992 :</a:t>
            </a:r>
            <a:endParaRPr b="0" lang="en-US" sz="28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reconnaît juridiquement le droit aux collectivités locales françaises et leurs groupements de « conclure des conventions avec des collectivités territoriales étrangères et leurs groupements, dans les limites de leurs compétences et dans le respect des engagements internationaux de la France »,</a:t>
            </a:r>
            <a:endParaRPr b="0" lang="en-US" sz="24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ermet aux collectivités territoriales de conduire des actions de coopération décentralisée sur leur budget général, mais pas sur leur budget annexe « eau et assainissement</a:t>
            </a:r>
            <a:r>
              <a:rPr b="0" lang="fr-FR"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99"/>
                </a:solidFill>
                <a:latin typeface="Arial"/>
              </a:rPr>
              <a:t>Mode d’action de la coopération décentralisée</a:t>
            </a:r>
            <a:endParaRPr b="0" lang="en-US" sz="3200" spc="-1" strike="noStrike">
              <a:solidFill>
                <a:srgbClr val="000000"/>
              </a:solidFill>
              <a:latin typeface="Arial"/>
            </a:endParaRPr>
          </a:p>
        </p:txBody>
      </p:sp>
      <p:sp>
        <p:nvSpPr>
          <p:cNvPr id="60" name="PlaceHolder 2"/>
          <p:cNvSpPr>
            <a:spLocks noGrp="1"/>
          </p:cNvSpPr>
          <p:nvPr>
            <p:ph/>
          </p:nvPr>
        </p:nvSpPr>
        <p:spPr>
          <a:xfrm>
            <a:off x="-360" y="2133720"/>
            <a:ext cx="8893080" cy="4114800"/>
          </a:xfrm>
          <a:prstGeom prst="rect">
            <a:avLst/>
          </a:prstGeom>
          <a:noFill/>
          <a:ln w="0">
            <a:noFill/>
          </a:ln>
        </p:spPr>
        <p:txBody>
          <a:bodyPr anchor="t">
            <a:normAutofit/>
          </a:bodyPr>
          <a:p>
            <a:pPr marL="343080" indent="-34308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oit la collectivité locale définit sa propre zone de coopération « de territoire à territoire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n gestion directe des opération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n partenariat avec des ONG ou autres partenair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Soit l’acteur de coopération décentralisée met en place un « guichet d’appui » à l’attention des acteurs de la solidarité internationale de son territoi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99"/>
                </a:solidFill>
                <a:latin typeface="Arial"/>
              </a:rPr>
              <a:t>Des qualités reconnues</a:t>
            </a:r>
            <a:endParaRPr b="0" lang="en-US" sz="3200" spc="-1" strike="noStrike">
              <a:solidFill>
                <a:srgbClr val="000000"/>
              </a:solidFill>
              <a:latin typeface="Arial"/>
            </a:endParaRPr>
          </a:p>
        </p:txBody>
      </p:sp>
      <p:sp>
        <p:nvSpPr>
          <p:cNvPr id="62" name="PlaceHolder 2"/>
          <p:cNvSpPr>
            <a:spLocks noGrp="1"/>
          </p:cNvSpPr>
          <p:nvPr>
            <p:ph/>
          </p:nvPr>
        </p:nvSpPr>
        <p:spPr>
          <a:xfrm>
            <a:off x="304920" y="1523880"/>
            <a:ext cx="8610480" cy="4572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Coopération directe entre acteurs locau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n phase sur les enjeux liés à la décentralisation (Reconnaît le caractère sous-souverain des collectivités locales du Sud et leur responsabilité dans la mise en œuvre des services publics locaux)</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Permet de renforcer les solidarités entre usagers du Nord et du Sud, de sensibiliser les citoyens en France à la problématique de l’accès à l’eau et à l’assainissement dans les PED</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ffet de levier sur la mobilisation d’autres financ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33000"/>
            <a:ext cx="7772400" cy="93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99"/>
                </a:solidFill>
                <a:latin typeface="Arial"/>
              </a:rPr>
              <a:t>La  loi Oudin-Santini</a:t>
            </a:r>
            <a:endParaRPr b="0" lang="en-US" sz="3200" spc="-1" strike="noStrike">
              <a:solidFill>
                <a:srgbClr val="000000"/>
              </a:solidFill>
              <a:latin typeface="Arial"/>
            </a:endParaRPr>
          </a:p>
        </p:txBody>
      </p:sp>
      <p:sp>
        <p:nvSpPr>
          <p:cNvPr id="64" name="PlaceHolder 2"/>
          <p:cNvSpPr>
            <a:spLocks noGrp="1"/>
          </p:cNvSpPr>
          <p:nvPr>
            <p:ph/>
          </p:nvPr>
        </p:nvSpPr>
        <p:spPr>
          <a:xfrm>
            <a:off x="228600" y="1294920"/>
            <a:ext cx="8763120" cy="4800600"/>
          </a:xfrm>
          <a:prstGeom prst="rect">
            <a:avLst/>
          </a:prstGeom>
          <a:noFill/>
          <a:ln w="0">
            <a:noFill/>
          </a:ln>
        </p:spPr>
        <p:txBody>
          <a:bodyPr anchor="t">
            <a:normAutofit/>
          </a:bodyPr>
          <a:p>
            <a:pPr marL="343080" indent="-343080">
              <a:lnSpc>
                <a:spcPct val="90000"/>
              </a:lnSpc>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2c2a2a"/>
                </a:solidFill>
                <a:latin typeface="Univers-Bold"/>
              </a:rPr>
              <a:t>Article 1</a:t>
            </a:r>
            <a:r>
              <a:rPr b="0" lang="fr-FR" sz="3200" spc="-1" strike="noStrike" baseline="30000">
                <a:solidFill>
                  <a:srgbClr val="000000"/>
                </a:solidFill>
                <a:latin typeface="Arial"/>
              </a:rPr>
              <a:t>er</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c2a2a"/>
                </a:solidFill>
                <a:latin typeface="Arial"/>
              </a:rPr>
              <a:t>	</a:t>
            </a:r>
            <a:r>
              <a:rPr b="0" lang="fr-FR" sz="2400" spc="-1" strike="noStrike">
                <a:solidFill>
                  <a:srgbClr val="2c2a2a"/>
                </a:solidFill>
                <a:latin typeface="Arial"/>
              </a:rPr>
              <a:t>Les </a:t>
            </a:r>
            <a:r>
              <a:rPr b="1" lang="fr-FR" sz="2400" spc="-1" strike="noStrike">
                <a:solidFill>
                  <a:srgbClr val="2c2a2a"/>
                </a:solidFill>
                <a:latin typeface="Arial"/>
              </a:rPr>
              <a:t>communes, les établissements publics de coopération intercommunale et les syndicats mixtes chargés des services publics de distribution d’eau potable et d’assainissement</a:t>
            </a:r>
            <a:r>
              <a:rPr b="0" lang="fr-FR" sz="2400" spc="-1" strike="noStrike">
                <a:solidFill>
                  <a:srgbClr val="2c2a2a"/>
                </a:solidFill>
                <a:latin typeface="Arial"/>
              </a:rPr>
              <a:t> peuvent, dans la limite de 1% des ressources qui sont affectées aux budgets de ces services, mener des actions de coopération avec les collectivités territoriales étrangères et leurs groupements, dans le cadre des conventions prévues à l’article L. 1115-1, des actions d’aide d’urgence au bénéfice de ces collectivités et groupements, ainsi que des actions de solidarité internationale dans les domaines de l’eau et de l’assainissement</a:t>
            </a:r>
            <a:r>
              <a:rPr b="0" lang="fr-FR" sz="2800" spc="-1" strike="noStrike">
                <a:solidFill>
                  <a:srgbClr val="2c2a2a"/>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228600" y="1294920"/>
            <a:ext cx="8763120" cy="4800600"/>
          </a:xfrm>
          <a:prstGeom prst="rect">
            <a:avLst/>
          </a:prstGeom>
          <a:noFill/>
          <a:ln w="0">
            <a:noFill/>
          </a:ln>
        </p:spPr>
        <p:txBody>
          <a:bodyPr anchor="t">
            <a:normAutofit/>
          </a:bodyPr>
          <a:p>
            <a:pPr marL="343080" indent="-343080">
              <a:lnSpc>
                <a:spcPct val="100000"/>
              </a:lnSpc>
              <a:spcBef>
                <a:spcPts val="901"/>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2c2a2a"/>
                </a:solidFill>
                <a:latin typeface="Univers-Bold"/>
              </a:rPr>
              <a:t>Article 2</a:t>
            </a:r>
            <a:endParaRPr b="0" lang="en-US" sz="36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2c2a2a"/>
                </a:solidFill>
                <a:latin typeface="Arial"/>
              </a:rPr>
              <a:t>	</a:t>
            </a:r>
            <a:r>
              <a:rPr b="0" lang="fr-FR" sz="2400" spc="-1" strike="noStrike">
                <a:solidFill>
                  <a:srgbClr val="2c2a2a"/>
                </a:solidFill>
                <a:latin typeface="Arial"/>
              </a:rPr>
              <a:t>Dans le respect des engagements internationaux de la France et dans le cadre de conventions soumises à l’avis du comité de bassin, l’agence peut mener des actions de coopération internationale dans les domaines de l’eau et de l’assainissement, dans la limite de 1 % de ses ressources, le cas échéant et suivant les règles statutaires en vigueur pour chaque catégorie de personnels, avec le concours de ses agents.</a:t>
            </a:r>
            <a:endParaRPr b="0" lang="en-US" sz="2400" spc="-1" strike="noStrike">
              <a:solidFill>
                <a:srgbClr val="000000"/>
              </a:solidFill>
              <a:latin typeface="Arial"/>
            </a:endParaRPr>
          </a:p>
        </p:txBody>
      </p:sp>
      <p:sp>
        <p:nvSpPr>
          <p:cNvPr id="66" name="Text Box 3"/>
          <p:cNvSpPr/>
          <p:nvPr/>
        </p:nvSpPr>
        <p:spPr>
          <a:xfrm>
            <a:off x="755640" y="476280"/>
            <a:ext cx="763272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99"/>
                </a:solidFill>
                <a:latin typeface="Arial"/>
              </a:rPr>
              <a:t>Dispositif loi Oudin-Santini (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333399"/>
                </a:solidFill>
                <a:latin typeface="Arial"/>
              </a:rPr>
              <a:t>Accroître la solidarité dans le domaine de l ’eau</a:t>
            </a:r>
            <a:endParaRPr b="0" lang="en-US" sz="3200" spc="-1" strike="noStrike">
              <a:solidFill>
                <a:srgbClr val="000000"/>
              </a:solidFill>
              <a:latin typeface="Arial"/>
            </a:endParaRPr>
          </a:p>
        </p:txBody>
      </p:sp>
      <p:sp>
        <p:nvSpPr>
          <p:cNvPr id="68" name="PlaceHolder 2"/>
          <p:cNvSpPr>
            <a:spLocks noGrp="1"/>
          </p:cNvSpPr>
          <p:nvPr>
            <p:ph/>
          </p:nvPr>
        </p:nvSpPr>
        <p:spPr>
          <a:xfrm>
            <a:off x="609480" y="1752480"/>
            <a:ext cx="439416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écisions sur le site </a:t>
            </a:r>
            <a:r>
              <a:rPr b="0" lang="fr-FR" sz="1800" spc="-1" strike="noStrike" u="sng">
                <a:solidFill>
                  <a:srgbClr val="009999"/>
                </a:solidFill>
                <a:uFillTx/>
                <a:latin typeface="Arial"/>
                <a:hlinkClick r:id="rId1"/>
              </a:rPr>
              <a:t>www.pseau.org</a:t>
            </a:r>
            <a:r>
              <a:rPr b="0" lang="fr-FR" sz="1800" spc="-1" strike="noStrike">
                <a:solidFill>
                  <a:srgbClr val="000000"/>
                </a:solidFill>
                <a:latin typeface="Arial"/>
              </a:rPr>
              <a:t>,  rubrique "Appui aux porteurs de projets Eau, une ligne loi « Oudin </a:t>
            </a:r>
            <a:r>
              <a:rPr b="0" lang="fr-FR"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e circulaire d’application lève les ambiguïtés notamment le contrôle de légalité</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our les collectivités locales : mobiliser, outre leur budget général, des moyens sur leur budget annexe « eau et assainissement » (relation entre consommation et solidarité).</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our les syndicats intercommunaux et les agences de l’eau : re légaliser des pratiques déjà anciennes</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4" descr=""/>
          <p:cNvPicPr/>
          <p:nvPr/>
        </p:nvPicPr>
        <p:blipFill>
          <a:blip r:embed="rId2"/>
          <a:stretch/>
        </p:blipFill>
        <p:spPr>
          <a:xfrm>
            <a:off x="5181480" y="1447920"/>
            <a:ext cx="3732480" cy="5257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9T14:37:31Z</dcterms:created>
  <dc:creator>PSEAU</dc:creator>
  <dc:description/>
  <dc:language>en-US</dc:language>
  <cp:lastModifiedBy>Christophe</cp:lastModifiedBy>
  <dcterms:modified xsi:type="dcterms:W3CDTF">2009-01-26T09:33:48Z</dcterms:modified>
  <cp:revision>35</cp:revision>
  <dc:subject/>
  <dc:title>Diapositive 1</dc:title>
</cp:coreProperties>
</file>